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6DB2-9C23-43ED-9085-359F1C8D90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8AB1-B951-435D-ABB8-AEFEB0A393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57AB-70EF-4E01-8A32-D69732B487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6233-9329-42C7-B0B9-D2348E678E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EDFD-5155-42E0-8EF4-BBD8F55A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D190-E580-4664-AA10-3E6C810E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CD5B-F643-4453-8EA2-CEFAEA9A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4835-3E34-431E-88BF-8FEDCB60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BE36-370A-4D6E-BBE3-F51B9380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55F8-FE96-4595-A628-B6A649FD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64C4-72F4-4C44-BFA2-48C84A56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36E8-AB49-42B2-B5AD-AB92B9B0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F9FA-5328-497F-9D81-0E59CB25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A829-14E8-404C-AC4F-8C5F56C3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6EA7-9DE0-4CE2-939E-59E1B20D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8D65-7DD2-4F3B-8676-01CC9BFD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B3BB-2482-4A88-B8F7-EB274639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85B4-B18C-44BC-AE48-42AA8435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3856-49A0-4CED-A211-B8FFC955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B65E-6762-4788-99CB-425F308A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5993-E65B-4BF7-AE87-2B3D75D0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69B31-78F3-4C17-9D36-4E19C98F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F87BE-C4F0-4212-A6D0-2876C803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29184-7813-4125-BACE-B7443D05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9EA28-7C8C-4CF9-99CF-50D2499A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A1655-F68B-47FB-AA83-872DAA64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6379-2824-4D77-87AF-58F5DB7F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310A3-1EEE-4271-B7AC-12C934DC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D98E2-B847-457A-812B-BAEF055A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54DA8-213D-4E32-9428-DF99F2C7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846E7-E482-4C1A-88AA-00DD01AE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24F8A-E2D9-49A1-A552-92A3976E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DC709-6504-4C6E-9101-95C0F8A4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B74C9-C065-4DEA-AAE7-8780E4A8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E1722-3903-4726-83EC-49FBD204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5DED2-3C44-40CE-87A3-3784E57D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BDA38-EFA5-4EC9-87C2-AA1E0370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34A7-511B-4723-A85D-2F28FAF9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874BD-4275-4E34-A793-C929AD85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E9EE9-5BF2-4CAF-9A4D-5C8C8A64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76321-4964-4E4B-B4CA-6B408741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A68D9-143E-48CA-980A-D2FDE82B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D5216-5FC4-4252-A1C2-AFC4C1C0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F1F49-3A25-45C7-A296-47A2693E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548BE-749C-4D9E-9BC5-4D825DBA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99F5B-5D5A-4238-8396-46BE759A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EA225-2A5F-4BF4-B044-696FF676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BC51-8E02-4777-846C-5DB4C25B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767E-CF49-4F4E-BC3B-7B551BB9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CB4C-DCEA-407A-93C1-543A8A42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0986-83D6-44B3-A981-05AD0E32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AA72-AD2B-4ECC-B624-A74833B6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BC57-0763-46BD-8D87-9DA5FBF3D82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39C1-E639-4929-9995-843A9F28903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F876-4EE1-4156-B358-B3D5DA01359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0621-004B-4037-ABDC-519EBDAAB6F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C:\Users\Олечка\Desktop\fc7f722d81.jpg"/>
          <p:cNvPicPr/>
          <p:nvPr/>
        </p:nvPicPr>
        <p:blipFill>
          <a:blip r:embed="rId1"/>
          <a:stretch/>
        </p:blipFill>
        <p:spPr>
          <a:xfrm>
            <a:off x="2714760" y="3643200"/>
            <a:ext cx="3214440" cy="2071800"/>
          </a:xfrm>
          <a:prstGeom prst="rect">
            <a:avLst/>
          </a:prstGeom>
          <a:ln w="0">
            <a:noFill/>
          </a:ln>
        </p:spPr>
      </p:pic>
      <p:pic>
        <p:nvPicPr>
          <p:cNvPr id="203" name="Заголовок 1" descr=""/>
          <p:cNvPicPr/>
          <p:nvPr/>
        </p:nvPicPr>
        <p:blipFill>
          <a:blip r:embed="rId2"/>
          <a:stretch/>
        </p:blipFill>
        <p:spPr>
          <a:xfrm>
            <a:off x="152280" y="1639800"/>
            <a:ext cx="889488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28760" y="9997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зонность приложения труда выражается в возрастании потребности в нем в отдельные периоды сельскохозяйственных работ с короткими сроками выполнения процессов по посеву, уходу за посевами, уборке урожая и т. п. Наибольшая потребность в приложении труда в аграрном производстве ощущается в период проведения некоторых летних работ (июль, август), наименьшая —  зимой (январь, февраль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4492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Рисунок 3" descr=""/>
          <p:cNvPicPr/>
          <p:nvPr/>
        </p:nvPicPr>
        <p:blipFill>
          <a:blip r:embed="rId1"/>
          <a:stretch/>
        </p:blipFill>
        <p:spPr>
          <a:xfrm>
            <a:off x="2000160" y="3500280"/>
            <a:ext cx="4714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28760" y="7855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Большое значение в повышении эффективности приложения труда в аграрном производстве имеет изыскание возможностей уменьшения его сезонности, обеспечивающих более равномерное использование запасов труда на протяжении год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Rectangle 1"/>
          <p:cNvSpPr/>
          <p:nvPr/>
        </p:nvSpPr>
        <p:spPr>
          <a:xfrm>
            <a:off x="285840" y="2431080"/>
            <a:ext cx="835812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сновным факторам сезонности приложения труда в аграрном производстве относят следу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8"/>
          <p:cNvSpPr/>
          <p:nvPr/>
        </p:nvSpPr>
        <p:spPr>
          <a:xfrm>
            <a:off x="1071720" y="3571920"/>
            <a:ext cx="578628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механизации 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евая структура 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обные предприятия и промыс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я работ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выполнения хозяйственных опера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0004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Производительность аграрного труда: понятие, показатели, исчисле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381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Rectangle 1"/>
          <p:cNvSpPr/>
          <p:nvPr/>
        </p:nvSpPr>
        <p:spPr>
          <a:xfrm>
            <a:off x="428760" y="1794960"/>
            <a:ext cx="821520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ающим показателем, характеризующим эффективность приложения труда в аграрном производстве, является его производительность (трудоотдач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ельность труда представляет собой способность конкретного труда производить определенное количество продукции (или выполнять определенный объем работ установленного качества) в единицу рабоче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2214720" y="4286160"/>
            <a:ext cx="34290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00040" y="1071360"/>
            <a:ext cx="814392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исчисления производительности труда в производстве отдельных видов аграрной продукции, ее учитывают 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туральных единицах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обычно в центнерах. При исчислении производительности труда в отдельных отраслях аграрного производства (растениеводстве, животноводстве) или в целом разнородную продукцию, не поддающуюся суммированию в натуре, выражают единым обобщающим измерителем, каковым является е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нежная оцен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измерения затрат труда при исчислении его производительности используют продолжительность рабочего времени. В аграрном производстве в качестве единиц рабочего времени использую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человеко-час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выражающий затраты чистого рабочего времени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человеко-ден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рабочий день одного работника 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еднегодовую численность работник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отражающую суммарное рабочее время за год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4492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5840" y="857160"/>
            <a:ext cx="8143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Уровень производительности труда (П) </a:t>
            </a: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или трудоотдачи рассчитывают делением количества соответствующего вида продукции в натуральном или денежном выражении или объема выполненных работ (О) на количество затраченного рабочего времени: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2714760" y="24300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"/>
              <p:cNvSpPr txBox="1"/>
              <p:nvPr/>
            </p:nvSpPr>
            <p:spPr>
              <a:xfrm>
                <a:off x="3786120" y="2357280"/>
                <a:ext cx="164304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П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СВП</m:t>
                        </m:r>
                        <m:r>
                          <m:t xml:space="preserve">;</m:t>
                        </m:r>
                        <m:r>
                          <m:t xml:space="preserve">О</m:t>
                        </m:r>
                      </m:num>
                      <m:den>
                        <m:r>
                          <m:t xml:space="preserve">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Rectangle 3"/>
          <p:cNvSpPr/>
          <p:nvPr/>
        </p:nvSpPr>
        <p:spPr>
          <a:xfrm>
            <a:off x="285840" y="3332520"/>
            <a:ext cx="79293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тная величина показателя производительности труда представляет собой трудоемкость продукции или работ (Т</a:t>
            </a:r>
            <a:r>
              <a:rPr b="0" lang="ru-RU" sz="2000" spc="-1" strike="noStrike" baseline="-30000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2571840" y="4215240"/>
            <a:ext cx="12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3643200" y="4143240"/>
                <a:ext cx="12146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Т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П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СВП</m:t>
                        </m:r>
                        <m:r>
                          <m:t xml:space="preserve">;</m:t>
                        </m:r>
                        <m:r>
                          <m:t xml:space="preserve">О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85840" y="857160"/>
            <a:ext cx="850104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В производстве аграрной продукции принимает участие широкий круг работников, как непосредственно самого аграрного производства, так и работников многих отраслей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449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се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ногообразие труда,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затраченного на производство аграрной продукции, принято подразделять на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две группы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449280" algn="just"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затраты живого труда, т.е. рабочего времени работников, которые заняты производством аграрной продукции на заключительном этапе ее получени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449280" algn="just"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затраты овеществленного труда. Овеществленный труд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ключает в себя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труд работников промышленности,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оплощенный в машинах, минеральных удобрениях и др., и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труд работников аграрного производства,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затраченный на предыдущих этапах производства и овеществленный в семенах, кормах и других средствах и предметах труда сельскохозяйственного происхождения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4492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28760" y="85680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Исчисление уровня производительности труда в аграрном производстве осуществляется с помощью системы показателей. Необходимость использования системы показателей для оценки эффективности приложения труда обусловлена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404280" algn="just">
              <a:buClr>
                <a:srgbClr val="0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о-первых, необходимостью обеспечения всесторонней характеристики производительности труда на всех уровнях, т. е. в аграрном производстве в целом, в отдельных его отраслях и в производстве от­дельных видов продукци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404280" algn="just">
              <a:buClr>
                <a:srgbClr val="0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о-вторых, это вызвано тем, что экономические процессы в аграрном производстве тесно переплетаются с биологическими, а рабочий период и период производства, как правило, не совпадают. Здесь наблюдается разрыв во времени между вложением труда и получением его конечного результата — продукции; к тому же само производство разделено не только во времени, но и в пространстве. Система показателей производительности аграрного труда позволяет отразить ее как по конечным результатам производства, так и на отдельных его стадиях и операция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42960" y="6429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оказатели, характеризующие производительность аграрного труд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28760" y="1714680"/>
            <a:ext cx="82296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сновные (полные) показател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оизводительности труда отражают соотношение между количеством полученной продукции и затраченным рабочим временем и, следовательно, достаточно полно характеризуют эффективность затрат живого труд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 зависимости от метода учета и оценк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продукции их подразделяют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на натуральные и стоимостные,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а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о степени охвата видов продукции и отраслей — на частные и обобщающие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Частные показател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характеризуют производительность аграрного труда в производстве отдельных (частных) или однородных видов продукции, а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бобщающие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— в отдельных отраслях (растениеводстве, животноводстве) или в аграрном производстве в целом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Частные показател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совпадают с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натуральными показателями,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а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бобщающие - со стоимостными показателями.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казатель, выражающий выход продукции в расчете на одного работника, отражает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годовую производительность труда,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а выход продукции в расчете на один человеко-час —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часовую производительность труд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500040" y="1071720"/>
            <a:ext cx="82296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атуральные показател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производительности аграрного труда обладают рядом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еимуществ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по сравнению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о стоимостными показателями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Они не подвержены влиянию структурных сдвигов в ассортименте продукции, дают возможность использования их для оценки затрат труда на отдельных технологических операциях и отражают реальные затраты живого труда, так как их учет осуществляется не через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условные стоимостные измерители,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а непосредственно в единицах рабочего времени. В то же время в натуральных показателях не находит отражения качество продук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едостатком основных показателей производительности труд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как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атуральных,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так и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тоимостных,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является то, что их можно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рассчитать только в целом за год,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так как вследствие сезонности аграрного производства конечные результаты труда становятся известными только по завершении хозяйственного год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57120" y="85680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ежду тем для оперативного контроля за эффективностью трудовых затрат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на промежуточных операциях производств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ажно знать достигнутый ее уровень в любой определенный период времени. Для этих целей используют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дополнительные (неполные) показатели,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торые хотя и не дают полной характеристики эффективности трудовых затрат, но выражают индивидуальную производительность аграрного труда на промежуточных операциях технологического процесса — объем выполненной работы за рабочий день или час, или затраты труда на выполнение единицы объема работ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Дополнительные показател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можно разделить на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единичные и суммарные показатели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Единичные показател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ыражают соотношение между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бъемом конкретных видов работ и затратами аграрного труд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на их выполнение. Из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единичных показателей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складываются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уммарные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— затраты труда на гектар посева определенных культур, голову определенного вида скота. Эффективность использования затрат живого труда в аграрном производстве косвенно характеризуют также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оказатели выхода продукци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— урожайность сельскохозяйственных культур и продуктивность скота, так как чем они выше, тем ниже трудоемкость продукции, и наоборот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426600" algn="just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426600" algn="just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426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13880" y="928800"/>
            <a:ext cx="547236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лан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5000"/>
            <a:ext cx="822960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492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 – определяющий фактор эффективности производства; труд хозяина и наемного работни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4492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овые ресурсы, их формирование и использование. Сезонность приложения труд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4492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изводительность аграрного труда: понятие, показатели, исчисле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4492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акторы производительности аграрного труд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28760" y="85716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зерновом производстве аграрных предприятиях затраты труда, относимые на солому, определяют по нормативам трудовых затрат, установленным на ее заготовку, и исключают из общего количества затрат труда на возделывание зерновых культур. Зерноотходы пересчитывают в полноценное зерно по удельному весу содержания в них зерн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Часовую производительность труда (ПТч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читывают делением общего количества зерна с учетом зерноотходов (полноценное зерно) на общую величину затрат труда (за вычетом затрат труда на солому)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де:   ВП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—  количество полноценного зерна, ц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Пзо —  количество зерноотходов, ц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 — доля полноценного зерна в зерноотходах, %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 —  количество затрат труда на возделывание зерновых культур (за вычетом затрат труда на солому),' чел.-ча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2671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1928880" y="3535200"/>
            <a:ext cx="9288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30000">
                <a:solidFill>
                  <a:srgbClr val="c00000"/>
                </a:solidFill>
                <a:latin typeface="Times New Roman"/>
                <a:ea typeface="Times New Roman"/>
              </a:rPr>
              <a:t>ПТчз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1"/>
              <p:cNvSpPr txBox="1"/>
              <p:nvPr/>
            </p:nvSpPr>
            <p:spPr>
              <a:xfrm>
                <a:off x="2786040" y="3714840"/>
                <a:ext cx="26431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Пз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ВПзо</m:t>
                        </m:r>
                        <m:r>
                          <m:t xml:space="preserve">×</m:t>
                        </m:r>
                        <m:r>
                          <m:t xml:space="preserve">Д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00040" y="107136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Трудоемкость 1 ц зерна (Те</a:t>
            </a:r>
            <a:r>
              <a:rPr b="1" lang="ru-RU" sz="2000" spc="-1" strike="noStrike" baseline="-25000">
                <a:solidFill>
                  <a:srgbClr val="002060"/>
                </a:solidFill>
                <a:latin typeface="Constantia"/>
              </a:rPr>
              <a:t>3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) </a:t>
            </a: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определяют делением общего количества затрат труда (за вычетом затрат труда на солому) на общее количество зерна с учетом зерноотходов (полноценное зерно):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                   </a:t>
            </a: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(Те</a:t>
            </a:r>
            <a:r>
              <a:rPr b="0" lang="ru-RU" sz="2000" spc="-1" strike="noStrike" baseline="-25000">
                <a:solidFill>
                  <a:srgbClr val="002060"/>
                </a:solidFill>
                <a:latin typeface="Constantia"/>
              </a:rPr>
              <a:t>3</a:t>
            </a: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)=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1"/>
              <p:cNvSpPr txBox="1"/>
              <p:nvPr/>
            </p:nvSpPr>
            <p:spPr>
              <a:xfrm>
                <a:off x="2928960" y="2143080"/>
                <a:ext cx="18572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Т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Пз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ВПзо</m:t>
                        </m:r>
                        <m:r>
                          <m:t xml:space="preserve">×</m:t>
                        </m:r>
                        <m:r>
                          <m:t xml:space="preserve">Д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Rectangle 9"/>
          <p:cNvSpPr/>
          <p:nvPr/>
        </p:nvSpPr>
        <p:spPr>
          <a:xfrm>
            <a:off x="500040" y="300456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кольку трудоемкость продукции и часовая производительность труда находятся между собой в обратной связи, постольку, если известна трудоемкость, часовая производительность труда может быть рассчитана более простым способ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10"/>
              <p:cNvSpPr txBox="1"/>
              <p:nvPr/>
            </p:nvSpPr>
            <p:spPr>
              <a:xfrm>
                <a:off x="2571840" y="3929040"/>
                <a:ext cx="2286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з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Те</m:t>
                            </m:r>
                          </m:e>
                          <m:sub>
                            <m:r>
                              <m:t xml:space="preserve">з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,1</m:t>
                    </m:r>
                    <m:r>
                      <m:t xml:space="preserve">ц</m:t>
                    </m:r>
                  </m:oMath>
                </a14:m>
              </a:p>
            </p:txBody>
          </p:sp>
        </mc:Choice>
        <mc:Fallback/>
      </mc:AlternateContent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57120" y="107136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В молочном скотоводстве аграрных предприятиях принято 90 % общего количества затрат труда на содержание стада коров (за исключением затрат труда на навоз) относить на молоко,</a:t>
            </a: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 а 10 % — на приплод. </a:t>
            </a: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Поэтому часовую производительность труда и трудоемкость продукции в этой отрасли рассчитывают следующим образом</a:t>
            </a: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: </a:t>
            </a:r>
            <a:r>
              <a:rPr b="1" lang="ru-RU" sz="2000" spc="-1" strike="noStrike">
                <a:solidFill>
                  <a:srgbClr val="0000ff"/>
                </a:solidFill>
                <a:latin typeface="Constantia"/>
              </a:rPr>
              <a:t>           ПТч</a:t>
            </a:r>
            <a:r>
              <a:rPr b="1" lang="ru-RU" sz="1200" spc="-1" strike="noStrike">
                <a:solidFill>
                  <a:srgbClr val="0000ff"/>
                </a:solidFill>
                <a:latin typeface="Constantia"/>
              </a:rPr>
              <a:t>м</a:t>
            </a:r>
            <a:r>
              <a:rPr b="1" lang="ru-RU" sz="2000" spc="-1" strike="noStrike">
                <a:solidFill>
                  <a:srgbClr val="0000ff"/>
                </a:solidFill>
                <a:latin typeface="Constantia"/>
              </a:rPr>
              <a:t>= ВП</a:t>
            </a:r>
            <a:r>
              <a:rPr b="1" lang="ru-RU" sz="1800" spc="-1" strike="noStrike">
                <a:solidFill>
                  <a:srgbClr val="0000ff"/>
                </a:solidFill>
                <a:latin typeface="Constantia"/>
              </a:rPr>
              <a:t>м</a:t>
            </a:r>
            <a:r>
              <a:rPr b="1" lang="ru-RU" sz="2000" spc="-1" strike="noStrike">
                <a:solidFill>
                  <a:srgbClr val="0000ff"/>
                </a:solidFill>
                <a:latin typeface="Constantia"/>
              </a:rPr>
              <a:t>/Т*0,9;         Тем= Т*0,9/ВП</a:t>
            </a:r>
            <a:r>
              <a:rPr b="1" lang="ru-RU" sz="1800" spc="-1" strike="noStrike">
                <a:solidFill>
                  <a:srgbClr val="0000ff"/>
                </a:solidFill>
                <a:latin typeface="Constanti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де   П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onstantia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- часовая производительность труда (на 1 чел.-час), ц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е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onstantia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 затраты труда на 1 ц молока, чел.-час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 - количество затрат труда на содержание стада коров (за исключением затрат труда на на­воз), чел.-час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ПМ - количество молока, ц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0,9 - доля затрат труда, относимая на молоко, %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0,1- доля затрат труда, относимая на приплод %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57120" y="64260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 исчислении часовой производительности труда и трудоемкости продукции в овцеводстве аграрных предприятиях из общего количества затрат труда на содержание овец исключают затраты труда на навоз и ягнят на момент их рождения (в мясо-шерстном овцеводстве — 12 % общего количества затрат труда после вычета из них затрат труда на навоз- 2%). Оставшиеся затраты труда распределяют на прирост живой массы и шерсти пропорционально их стоимости в оценке по ценам реализа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Расчет часовой производительности труда и трудоемкости продукции в овцеводств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может быть выполнен также с помощью формул: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Тч1= ВП1/Т*Д1;      Те1= Т*Д1/ВП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: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часовая производительность в производстве продукции данного вида (на 1 чел.-час), кг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1 -трудоемкость данного вида продукции (на 1 ц), чел.-час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-  затраты труда на содержание стада овец (за исключением затрат труда на навоз и ягнят), чел.-час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1 - количество продукции данного вида, ц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1 - удельный вес продукции данного вида, %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4042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85480" y="642960"/>
            <a:ext cx="8443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Факторы производительности аграрного тру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372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Прямоугольник 4"/>
          <p:cNvSpPr/>
          <p:nvPr/>
        </p:nvSpPr>
        <p:spPr>
          <a:xfrm>
            <a:off x="571680" y="1428840"/>
            <a:ext cx="8001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и неуклонное повышение производительности труда являются необходимыми условиями высокоэффективного ведения аграрного 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ая сущность повышения производительности тру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 в уменьшении его количества на производство единицы продукции, или, что то же самое, увеличении производства продукции при затратах одного и того же или уменьшающегося количества труда.    Под повышением производительности труда принято понимать всякое вообще изменение в процессе труда, сокращающее рабочее время, общественно необходимое для производства данного товара, так что меньшее количество труда приобретает способность произвести большее количество потребительской стои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7142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ы производительности аграрного труда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5000"/>
            <a:ext cx="8229600" cy="21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 </a:t>
            </a: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1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Мотивация труда работник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Механизация труда и интенсивность использования маши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Технология производств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 Специализация и размеры производств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. Качество труд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.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имат, плодородие почв, рельеф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28760" y="1071720"/>
            <a:ext cx="82152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(стоимость) продукции является необходимым и важным условием повышения производительности труда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ротивном случае и при относительно низких трудовых затратах на возделывание сельскохозяйственных культур и содержание скота затраты труда на единицу продукции могут оказаться высоким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изводства аграрной продук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лжно осуществлять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его интенсификации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отя повышение урожайности сельскохозяйственных культур и продуктивности скота связано с некоторым увеличением трудовых затрат. Совершенствование технологии возделываний сельскохозяйственных культур, расширение применения удобрений, улучшение кормления животных обусловливают необходимость дополнительных затрат труда в расчете на гектар посева и голову скот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4492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1. Труд — определяющий фактор эффективности производства; труд хозяина и наемного работника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57140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Труд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— целесообразная, сознательная деятельность человека, направленная на удовлетворение потребностей индивида и общества. В процессе этой деятельности человек при помощи орудий труда осваивает, изменяет и приспосабливает к своим целям предметы природы, использует механические, физические и химические свойства предметов и явлений природы и заставляет их взаимно влиять друг на друга для достижения заранее намеченной цел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Как экономическая категория, труд представляет собой один из факторов производств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роцесс труда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едставляет собой совокупность действий человека на рабочем месте, направленных на достижение определенного результата его трудовой деятельности. «Труд — всякое умственное или физическое усилие, предпринимаемое человеком частично или целиком с целью достичь какого-либо результата»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2617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28400" y="928440"/>
            <a:ext cx="835812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оцесс труда в аграрном производстве включает в себя три элемента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444600" algn="just"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редства труда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444600" algn="just"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редметы труда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444600" algn="just"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и непосредственно сам труд челове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Без материальных факторов производства немыслим процесс труда, но и без труда человека материальные факторы мертвы и ничего не могут создать. Труд людей заставляет функционировать материальные факторы производства и содействовать реализации намеченных целей. Создавая средства и предметы труда и воздействуя на природу, человек изменяет и самого себя, растут его навыки, знания и производственный опыт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 развитием производственных сил общества все более совершенствуются средства труда, все новые предметы труда вовлекаются в процесс аграрного производства. Но как бы далеко ни шагнула наука и техника в своем развитии, труд не утратит определяющей роли в процессе аграрного производства, а человек — решающей роли в процессе труд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99680" y="642960"/>
            <a:ext cx="82868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 аграрном производстве, имеющем дело с живыми организмами, особенно важно, чтобы каждый работник относился к труду, своему делу не безразлично и бездушно, как наемный поденщик, а по-хозяйски, с ответственностью за конечные результаты. В конечном счете это означает преодоление отчужденности труда. Потому что отчужденный труд - это всегда принудительный труд. Это либо труд раба, либо труд наемного рабочего, который по своей сущности всегда остается принудительным трудом, хотя бы он и казался результатом свободного договорного соглашения. Одно дело, когда человек по своей работе исполняет принятые кем-то решения, является простым исполнителем чужой воли. Другое дело, когда он принимает решения сам; в этом случае он чувствует себя хозяином и это удесятеряет его силы, изобретательность, оперативность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onstantia"/>
              </a:rPr>
              <a:t>Хозяином может стать лишь тот, кто сам распоряжается факторами производства, кто сам управляет делом, кто сам зарабатывает, у которого есть средства для достижения своих целей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и наемном труде в государственных предприятиях оплачивается сам труд в форме заработной платы (оплаты труда), как правило, за промежуточные результаты. В крестьянском хозяйстве и при других формах хозяйствования, основанных на частной собственности, труд оплачивается в форме дохода, формируемого по остаточному принципу, за конечные результаты — урожайность сельскохозяйственных культур, продуктивность скота, прибыль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4572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5357880" y="5572080"/>
            <a:ext cx="2408040" cy="1000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различия между хозяином и наемным работником в аграрном производстве сводятся к следующему: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14240" y="1571760"/>
          <a:ext cx="7715520" cy="4678200"/>
        </p:xfrm>
        <a:graphic>
          <a:graphicData uri="http://schemas.openxmlformats.org/drawingml/2006/table">
            <a:tbl>
              <a:tblPr/>
              <a:tblGrid>
                <a:gridCol w="2928960"/>
                <a:gridCol w="2071800"/>
                <a:gridCol w="2714760"/>
              </a:tblGrid>
              <a:tr h="28872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зя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емный работ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94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дание собственностью на землю и другие материальные факторы произ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дание собственностью на произведенный продук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ность тру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   формирования заработной платы (доход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исимость   размер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аботной платы (доход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ческая    ответственность за результаты хозяйствен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да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да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 от конечных результатов и по   остаточному принцип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собственных трудовых усил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ая, в том числе   материальная ответств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блада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блада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аботная плата в зависимости от промежуточных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расценок, тарифных ставок, окла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 ответств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42976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2. Трудовые ресурсы, их формирование и использование. Сезонность приложения труд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00040" y="1856880"/>
            <a:ext cx="84009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ффективность аграрного производства в решающей степени зависит от наличия, квалификации и уровня использования трудовых ресурс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Трудовые ресурсы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– это та часть трудоспособного населения, которая обладает необходимыми физическими данными, знаниями и навыками труда в соответствующей отрасл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417600" algn="just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417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000160" y="4786200"/>
            <a:ext cx="4643640" cy="1470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28760" y="785880"/>
            <a:ext cx="82864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К трудовым ресурсам аграрного производства относя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способных мужчин в возрасте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 16 до 63 л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женщин —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 18 до 58 л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дростков —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 14 до 16 ле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иц пенсионного возраст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удовые ресурсы включают в себя как занятое, так и незанятое в экономике трудоспособное населени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удоспособное население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это совокупность лиц, преимущественно в рабочем возрасте, способных по своим психофизическим данным к участию в производственном процесс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счета трудовых ресурсов аграрного производства использую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эффициенты перево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работников в равнозначные трудовые единицы. Для мужчин в возрасте от 16 до 63 лет коэффициент перевода принят з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женщин от 18 до 58 лет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8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подростков от 14 до 16 лет -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ля лиц пенсионного возраста -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4492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56800" y="428760"/>
            <a:ext cx="744372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Особенности трудовых ресурсов и приложения труда в аграрном производстве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142884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правленность содержания труда на создание благоприятных условий для развития биологических факторов производства, живых организмов —   почвы, растений, животных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Зависимость эффективности приложения труда от природных факторов, в частности, от плодородия земли и погодно-климатических условий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овмещение работниками нескольких трудовых функций, их универсализация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тсутствие обезлички в производственном процессе, использовании земли, скота, других ресурсов. Широкое разнообразие и нестандартность производственных условий определяют необходимость индивидуального подхода к выбору технологических схем для работы на поле и выращивании животных, обусловливают соответствующие формы связи работника с землей и животными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Самоуправление в трудовых процессах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Высокая и устойчивая зависимость доходов работников не от промежуточных результатов (объективная и точная оценка их практически невозможна), а от конечных экономических результатов труда на земле и в животноводстве —  количества, качества продукции, затрат  на  ее производство, прибыл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Сезонность приложения труда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4312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8:31:19Z</dcterms:created>
  <dc:creator>Олечка</dc:creator>
  <dc:description/>
  <dc:language>en-US</dc:language>
  <cp:lastModifiedBy>Оля</cp:lastModifiedBy>
  <dcterms:modified xsi:type="dcterms:W3CDTF">2014-01-20T03:38:03Z</dcterms:modified>
  <cp:revision>60</cp:revision>
  <dc:subject/>
  <dc:title>Трудовые ресурсы и их использование</dc:title>
</cp:coreProperties>
</file>